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98D-4960-4976-A9F5-611BDD11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DF1-E73B-402B-BDC2-C2F593F2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CD2B-4AE7-46EF-AB9E-9FFAEA9B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062-7103-4AA4-A199-61D21FD9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C0051-D122-41C8-A09A-98B17B13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1DFFA-874E-4C09-A052-5308B99A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36B90-43FA-40B9-85DD-F46F045B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F918A-AFBD-4673-A11B-38F00632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0B128-5B05-4F23-B18C-9E82CF4D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CAABB-5917-497D-9B17-1CD7422C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E5FAA-C9B0-4CD2-94D0-17BBAAFD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7153-C188-41E2-B49A-CDF80896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54D04-B13D-4828-BB13-37239138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51A87-9D7B-45B3-9528-070F6EE5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1B35E-40E9-4337-8626-AA2332E2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66323-80A1-43AA-A870-8D3E2608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24139-8936-456E-B246-AD74A0F3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8758C-A383-408F-8C7D-DC5B9539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5BECF-C8C8-4898-9F17-024A68A4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FD8A4-3B22-4B26-B939-C2CF2485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EF87A-DA28-4CF3-8331-BE8F470E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8ED91-3491-4643-8411-8C0292C0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E50E-161C-46B8-907B-7B4A2107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F6627-1096-4376-9D53-66ED1B54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E7BA7-FE4D-43DE-AB07-77C0BE61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AAE10-0163-4788-99DE-1E3ABB36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5C30D-24EF-4655-B62E-66CBDBF7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525F0-EC54-4126-BD9F-88F3B5BC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0410F-A0F7-4CDA-9656-FEF9511E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DC506-CA28-499A-A3B2-C0686891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9354FC-C004-4261-8D51-1600C9A7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8CF33D-37C9-4A91-A284-3E146C17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4FDB8A-E18D-417B-9E6F-72574A9C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2BE-68B6-40C8-B46E-B8A59229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861829-BA60-4440-AD2E-A126A117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F2C566-CBDB-4AC6-A3C3-78C1B316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770CA5-8084-486F-B681-B6BF6790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C84C81-62D8-4735-99E5-F1CB7D73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40FF61-F6ED-4C6D-A3CC-7A5452AE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150485-5747-459E-8798-ADA41CCA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7785B2-FA5B-4AF9-BD04-1E190469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41693B-414B-4965-92E8-7D1EA350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BFCC0C-A832-4BED-9C73-063D11C8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ACC-77F0-4FF1-A3F6-9AEE6704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04B-2352-4804-9BC2-9F92E00B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5F3-A700-435A-BFE9-513D719D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F16-5E1D-4371-AA08-3AD8FEC0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D92-B26B-4E91-8E13-D3AF45F3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9AD7-2F5A-4B7C-BFA4-CAA6D4E1EF2E}" type="slidenum">
              <a:rPr b="0" lang="en-NZ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F215-C520-4BE9-8EE7-8CD04E3A338D}" type="slidenum">
              <a:rPr b="0" lang="en-NZ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4CDD-89CE-47F9-BA40-4EB6D6204BF2}" type="slidenum">
              <a:rPr b="0" lang="en-NZ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6987-C08E-4A31-8DF4-5663A1B10662}" type="slidenum">
              <a:rPr b="0" lang="en-NZ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171" name="Title 1"/>
          <p:cNvSpPr/>
          <p:nvPr/>
        </p:nvSpPr>
        <p:spPr>
          <a:xfrm>
            <a:off x="457200" y="4286160"/>
            <a:ext cx="830592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0012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Database updates – checks put in place to ensure data qual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Front-End display – whole city or specific areas?  Load-time considerations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Map viewer as separate deliverabl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Open source IDE development – TSQL vs MySQL; Flash vs FlashDevelop – budget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Technical complexity – client technical compete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0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0012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NZ" sz="2800" spc="-1" strike="noStrike">
                <a:solidFill>
                  <a:srgbClr val="000000"/>
                </a:solidFill>
                <a:latin typeface="Constantia"/>
              </a:rPr>
              <a:t>eHeritage Dunedin is a virtual 3D walkthrough of Dunedin, allowing users to view the city at various stages of its history.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NZ" sz="2800" spc="-1" strike="noStrike">
                <a:solidFill>
                  <a:srgbClr val="000000"/>
                </a:solidFill>
                <a:latin typeface="Constantia"/>
              </a:rPr>
              <a:t>eHeritage Dunedin is a virtual 3D </a:t>
            </a:r>
            <a:r>
              <a:rPr b="0" i="1" lang="en-NZ" sz="2800" spc="-1" strike="noStrike">
                <a:solidFill>
                  <a:srgbClr val="ff0000"/>
                </a:solidFill>
                <a:latin typeface="Constantia"/>
              </a:rPr>
              <a:t>model</a:t>
            </a:r>
            <a:r>
              <a:rPr b="0" i="1" lang="en-NZ" sz="2800" spc="-1" strike="noStrike">
                <a:solidFill>
                  <a:srgbClr val="000000"/>
                </a:solidFill>
                <a:latin typeface="Constantia"/>
              </a:rPr>
              <a:t> of Dunedin, allowing users to view the city at various stages of its history.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NZ" sz="2800" spc="-1" strike="noStrike">
                <a:solidFill>
                  <a:srgbClr val="000000"/>
                </a:solidFill>
                <a:latin typeface="Constantia"/>
              </a:rPr>
              <a:t>eHeritage Dunedin is an </a:t>
            </a:r>
            <a:r>
              <a:rPr b="0" i="1" lang="en-NZ" sz="2800" spc="-1" strike="noStrike">
                <a:solidFill>
                  <a:srgbClr val="ff0000"/>
                </a:solidFill>
                <a:latin typeface="Constantia"/>
              </a:rPr>
              <a:t>interactive</a:t>
            </a:r>
            <a:r>
              <a:rPr b="0" i="1" lang="en-NZ" sz="2800" spc="-1" strike="noStrike">
                <a:solidFill>
                  <a:srgbClr val="000000"/>
                </a:solidFill>
                <a:latin typeface="Constantia"/>
              </a:rPr>
              <a:t> 3D model of Dunedin, allowing </a:t>
            </a:r>
            <a:r>
              <a:rPr b="0" i="1" lang="en-NZ" sz="2800" spc="-1" strike="noStrike">
                <a:solidFill>
                  <a:srgbClr val="ff0000"/>
                </a:solidFill>
                <a:latin typeface="Constantia"/>
              </a:rPr>
              <a:t>museum visitors </a:t>
            </a:r>
            <a:r>
              <a:rPr b="0" i="1" lang="en-NZ" sz="2800" spc="-1" strike="noStrike">
                <a:solidFill>
                  <a:srgbClr val="000000"/>
                </a:solidFill>
                <a:latin typeface="Constantia"/>
              </a:rPr>
              <a:t>to view the city at various stages of its history.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3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5467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0012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As the bulk of our project is 3D modelling and texturing, which are both time-consuming, manual tasks, we focussed on developing a system that would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444d26"/>
                </a:solidFill>
                <a:latin typeface="Century"/>
              </a:rPr>
              <a:t>Store resources in such a way that they can easily be accessed for modelling or texturing.</a:t>
            </a:r>
            <a:endParaRPr b="0" lang="en-US" sz="2400" spc="-1" strike="noStrike">
              <a:solidFill>
                <a:srgbClr val="444d26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444d26"/>
                </a:solidFill>
                <a:latin typeface="Century"/>
              </a:rPr>
              <a:t>Organize geo-data according to year, including GIS-data, aerial photographs, parcel/building information.</a:t>
            </a:r>
            <a:endParaRPr b="0" lang="en-US" sz="2400" spc="-1" strike="noStrike">
              <a:solidFill>
                <a:srgbClr val="444d26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444d26"/>
                </a:solidFill>
                <a:latin typeface="Century"/>
              </a:rPr>
              <a:t>Be scalable, allowing for extra years to be added easily, or extra data to be added to any existing years.</a:t>
            </a:r>
            <a:endParaRPr b="0" lang="en-US" sz="2400" spc="-1" strike="noStrike">
              <a:solidFill>
                <a:srgbClr val="444d26"/>
              </a:solidFill>
              <a:latin typeface="Constantia"/>
            </a:endParaRPr>
          </a:p>
        </p:txBody>
      </p:sp>
      <p:pic>
        <p:nvPicPr>
          <p:cNvPr id="175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0012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A significant lack of data:  building heigh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But data being collected over the next few years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So what should we do?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Two op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444d26"/>
                </a:solidFill>
                <a:latin typeface="Century"/>
              </a:rPr>
              <a:t>Populate the system with inaccurate test data.</a:t>
            </a:r>
            <a:endParaRPr b="0" lang="en-US" sz="2400" spc="-1" strike="noStrike">
              <a:solidFill>
                <a:srgbClr val="444d26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444d26"/>
                </a:solidFill>
                <a:latin typeface="Century"/>
              </a:rPr>
              <a:t>Use other data to demonstrate the capability of the system, although not within our initial spec.</a:t>
            </a:r>
            <a:endParaRPr b="0" lang="en-US" sz="2400" spc="-1" strike="noStrike">
              <a:solidFill>
                <a:srgbClr val="444d26"/>
              </a:solidFill>
              <a:latin typeface="Constantia"/>
            </a:endParaRPr>
          </a:p>
        </p:txBody>
      </p:sp>
      <p:pic>
        <p:nvPicPr>
          <p:cNvPr id="17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79" name="Content Placeholder 4" descr="showcase1.jpg"/>
          <p:cNvPicPr/>
          <p:nvPr/>
        </p:nvPicPr>
        <p:blipFill>
          <a:blip r:embed="rId2"/>
          <a:stretch/>
        </p:blipFill>
        <p:spPr>
          <a:xfrm>
            <a:off x="1714680" y="1523880"/>
            <a:ext cx="5715000" cy="45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showcase2.jpg"/>
          <p:cNvPicPr/>
          <p:nvPr/>
        </p:nvPicPr>
        <p:blipFill>
          <a:blip r:embed="rId3"/>
          <a:stretch/>
        </p:blipFill>
        <p:spPr>
          <a:xfrm>
            <a:off x="1719360" y="1528920"/>
            <a:ext cx="57103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0012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"/>
              </a:rPr>
              <a:t>The system shall store data from each year in separate layers, allowing for isolated editing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"/>
              </a:rPr>
              <a:t>The system shall link layers to allow for relationship queri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"/>
              </a:rPr>
              <a:t>The system shall georeference historical town maps to present land parcel data from the DCC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"/>
              </a:rPr>
              <a:t>The system shall plot building footprints over land parcel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"/>
              </a:rPr>
              <a:t>The system shall extrude building footprints to 3D model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"/>
              </a:rPr>
              <a:t>The system shall render 3D buildings using texture map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0012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The system shall catalogue existing resources (photos, articles, etc.) into a databas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The user can navigate the 3D environme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The user can change time perio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The user can interact with 3D environment (additional information about buildings, site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The client can update database as requir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0012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Database (April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444d26"/>
                </a:solidFill>
                <a:latin typeface="Century"/>
              </a:rPr>
              <a:t>The system shall catalogue existing resources (photos, articles, etc.) into a database. </a:t>
            </a:r>
            <a:endParaRPr b="0" lang="en-US" sz="2400" spc="-1" strike="noStrike">
              <a:solidFill>
                <a:srgbClr val="444d26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444d26"/>
                </a:solidFill>
                <a:latin typeface="Century"/>
              </a:rPr>
              <a:t>The client can update database as required.</a:t>
            </a:r>
            <a:endParaRPr b="0" lang="en-US" sz="2400" spc="-1" strike="noStrike">
              <a:solidFill>
                <a:srgbClr val="444d26"/>
              </a:solidFill>
              <a:latin typeface="Constantia"/>
            </a:endParaRPr>
          </a:p>
        </p:txBody>
      </p:sp>
      <p:pic>
        <p:nvPicPr>
          <p:cNvPr id="186" name="Title 2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0012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Front-End (April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444d26"/>
                </a:solidFill>
                <a:latin typeface="Century"/>
              </a:rPr>
              <a:t>The user can navigate the 3D environment. </a:t>
            </a:r>
            <a:endParaRPr b="0" lang="en-US" sz="2400" spc="-1" strike="noStrike">
              <a:solidFill>
                <a:srgbClr val="444d26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444d26"/>
                </a:solidFill>
                <a:latin typeface="Century"/>
              </a:rPr>
              <a:t>The user can change time period. </a:t>
            </a:r>
            <a:endParaRPr b="0" lang="en-US" sz="2400" spc="-1" strike="noStrike">
              <a:solidFill>
                <a:srgbClr val="444d26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444d26"/>
                </a:solidFill>
                <a:latin typeface="Century"/>
              </a:rPr>
              <a:t>The user can interact with 3D environment (additional information about buildings, sites).</a:t>
            </a:r>
            <a:endParaRPr b="0" lang="en-US" sz="2400" spc="-1" strike="noStrike">
              <a:solidFill>
                <a:srgbClr val="444d26"/>
              </a:solidFill>
              <a:latin typeface="Constantia"/>
            </a:endParaRPr>
          </a:p>
        </p:txBody>
      </p:sp>
      <p:pic>
        <p:nvPicPr>
          <p:cNvPr id="188" name="Title 2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2:35:23Z</dcterms:created>
  <dc:creator>moskaac1</dc:creator>
  <dc:description/>
  <dc:language>en-US</dc:language>
  <cp:lastModifiedBy>Default-User</cp:lastModifiedBy>
  <dcterms:modified xsi:type="dcterms:W3CDTF">2010-03-04T20:30:11Z</dcterms:modified>
  <cp:revision>28</cp:revision>
  <dc:subject/>
  <dc:title>eHeritage Dunedin 2nd Iteration Presentation</dc:title>
</cp:coreProperties>
</file>